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231-3127-49CF-B9D0-67D65D8C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079-FECA-40D7-8577-86D992F2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3C2-D29E-4D13-97A3-CD65C460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464-85F1-4A2F-B6CB-A4CD2EA0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D0B2-C8AF-4B6C-B832-1A3EC00F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ECC1-85E4-4BBF-AA2E-0EDC5816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D9DD-2572-4679-B729-F41F5193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12B9-6B21-4956-BBD2-43C5FD8C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D3F2-0AE2-40D2-90A8-6F78624B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2698-6717-4770-BFA5-6D0A8756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08FD-88EE-4FC8-AEB7-E2E62F79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040-AF81-4256-A27B-B1E00435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BB0D-3977-43E8-B5BE-2F1AF65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59F4-6AA8-4790-8464-28B912D5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D202-B398-449B-92B0-B044167D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41E7-5619-45D2-9BEB-A5CC5BE8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7CA6-1A0F-4F9F-970E-48C3B504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462-4B39-4642-8A45-DF26105C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D52-DCC7-4A0A-9E91-9F7C1EC4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43B-6C42-411C-9C34-D952133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C307-3EAA-43CF-AABB-C809DB7E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E3B-BA7D-4E64-9A1B-0CFD600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053-B8AC-4BEC-9581-97CDD63C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3FF-FC85-48C0-926B-6CC06F44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1327-0427-42C7-9076-D6714D9B644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3089-95D9-43B3-90C8-95D32AF3B2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4768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95360" y="1447920"/>
            <a:ext cx="875016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4768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4768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344016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Козин Егор 5 «А» класс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Гимназия № 4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009 год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4" descr="7401020_a"/>
          <p:cNvPicPr/>
          <p:nvPr/>
        </p:nvPicPr>
        <p:blipFill>
          <a:blip r:embed="rId2"/>
          <a:stretch/>
        </p:blipFill>
        <p:spPr>
          <a:xfrm>
            <a:off x="272880" y="0"/>
            <a:ext cx="172908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031"/>
          <p:cNvGrpSpPr/>
          <p:nvPr/>
        </p:nvGrpSpPr>
        <p:grpSpPr>
          <a:xfrm>
            <a:off x="415800" y="3500280"/>
            <a:ext cx="9327960" cy="201600"/>
            <a:chOff x="415800" y="3500280"/>
            <a:chExt cx="9327960" cy="201600"/>
          </a:xfrm>
        </p:grpSpPr>
        <p:sp>
          <p:nvSpPr>
            <p:cNvPr id="48" name="Rectangle 1032"/>
            <p:cNvSpPr/>
            <p:nvPr/>
          </p:nvSpPr>
          <p:spPr>
            <a:xfrm>
              <a:off x="415800" y="3500280"/>
              <a:ext cx="310932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33"/>
            <p:cNvSpPr/>
            <p:nvPr/>
          </p:nvSpPr>
          <p:spPr>
            <a:xfrm>
              <a:off x="3525120" y="3500280"/>
              <a:ext cx="310932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34"/>
            <p:cNvSpPr/>
            <p:nvPr/>
          </p:nvSpPr>
          <p:spPr>
            <a:xfrm>
              <a:off x="6634800" y="3500280"/>
              <a:ext cx="310896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1" name="Picture 1036" descr="7401020_a"/>
          <p:cNvPicPr/>
          <p:nvPr/>
        </p:nvPicPr>
        <p:blipFill>
          <a:blip r:embed="rId2"/>
          <a:stretch/>
        </p:blipFill>
        <p:spPr>
          <a:xfrm>
            <a:off x="128520" y="0"/>
            <a:ext cx="172872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E6FC-9128-4279-87E3-82653231FD6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озин Егор 5 «А» клас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Гимназия № 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9 го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35BD-1D42-4669-B09B-5345F6284E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48880" y="4005000"/>
            <a:ext cx="842004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Garamond"/>
              </a:rPr>
              <a:t>Ученика 5 «А» класса</a:t>
            </a:r>
            <a:br>
              <a:rPr sz="1800"/>
            </a:br>
            <a:r>
              <a:rPr b="1" i="1" lang="en-US" sz="1800" spc="-1" strike="noStrike">
                <a:solidFill>
                  <a:srgbClr val="666699"/>
                </a:solidFill>
                <a:latin typeface="Garamond"/>
              </a:rPr>
              <a:t>Гимназии № 41</a:t>
            </a:r>
            <a:br>
              <a:rPr sz="1800"/>
            </a:br>
            <a:r>
              <a:rPr b="1" i="1" lang="en-US" sz="1800" spc="-1" strike="noStrike">
                <a:solidFill>
                  <a:srgbClr val="666699"/>
                </a:solidFill>
                <a:latin typeface="Garamond"/>
              </a:rPr>
              <a:t>Козина Егора</a:t>
            </a:r>
            <a:br>
              <a:rPr sz="1800"/>
            </a:br>
            <a:r>
              <a:rPr b="1" i="1" lang="en-US" sz="1800" spc="-1" strike="noStrike">
                <a:solidFill>
                  <a:srgbClr val="666699"/>
                </a:solidFill>
                <a:latin typeface="Garamond"/>
              </a:rPr>
              <a:t>                                                                                                           Руководитель:</a:t>
            </a:r>
            <a:br>
              <a:rPr sz="1800"/>
            </a:br>
            <a:r>
              <a:rPr b="1" i="1" lang="en-US" sz="1800" spc="-1" strike="noStrike">
                <a:solidFill>
                  <a:srgbClr val="666699"/>
                </a:solidFill>
                <a:latin typeface="Garamond"/>
              </a:rPr>
              <a:t>                                                                                                           Котлярова Е. Д.</a:t>
            </a:r>
            <a:endParaRPr b="0" lang="en-US" sz="18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60520" y="1197000"/>
            <a:ext cx="9145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Исследовательская работа на тему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Verdana"/>
              </a:rPr>
              <a:t>«Измерение длины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52200" y="3214800"/>
            <a:ext cx="8420040" cy="15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4700" spc="-1" strike="noStrike">
              <a:solidFill>
                <a:srgbClr val="990000"/>
              </a:solidFill>
              <a:latin typeface="Garamond"/>
            </a:endParaRPr>
          </a:p>
        </p:txBody>
      </p:sp>
      <p:pic>
        <p:nvPicPr>
          <p:cNvPr id="122" name="Picture 0" descr="1052237326_bg"/>
          <p:cNvPicPr/>
          <p:nvPr/>
        </p:nvPicPr>
        <p:blipFill>
          <a:blip r:embed="rId1"/>
          <a:stretch/>
        </p:blipFill>
        <p:spPr>
          <a:xfrm>
            <a:off x="2738520" y="357120"/>
            <a:ext cx="4214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8D03-1CFB-49E7-90EE-C6B617BA50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Garamond"/>
              </a:rPr>
              <a:t>Наука начинается тогда, </a:t>
            </a:r>
            <a:br>
              <a:rPr sz="1800"/>
            </a:br>
            <a:r>
              <a:rPr b="1" i="1" lang="en-US" sz="1800" spc="-1" strike="noStrike">
                <a:solidFill>
                  <a:srgbClr val="990000"/>
                </a:solidFill>
                <a:latin typeface="Garamond"/>
              </a:rPr>
              <a:t>когда начинают измерять.</a:t>
            </a:r>
            <a:br>
              <a:rPr sz="1800"/>
            </a:br>
            <a:r>
              <a:rPr b="1" i="1" lang="en-US" sz="1800" spc="-1" strike="noStrike">
                <a:solidFill>
                  <a:srgbClr val="990000"/>
                </a:solidFill>
                <a:latin typeface="Garamond"/>
              </a:rPr>
              <a:t>Д.И. Менделеев</a:t>
            </a:r>
            <a:endParaRPr b="0" lang="en-US" sz="18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Цель работ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зучить методы измерения длин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Задачи рабо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зучить исторический аспек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Узнать единицы измерения длин в разных страна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ассмотреть практическое применение методов измерения дли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5203-856C-4B9E-BEF6-9C2FFB85666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Garamond"/>
              </a:rPr>
              <a:t>Исторические аспекты</a:t>
            </a: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6362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лово «длина» имеет древнерусское происхождение и означает протяженность чего-нибудь в продольном направлении. В физике термин «длина» обычно используется как синоним «расстояния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амым первым способом измерения длины, и самой первой линейкой был сам человек. Он сравнивал длину других предметов с самим собой (два человеческих роста), с частями своего тела (2 ладони, 4 ступни), своими возможностями (количество шагов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рмин «золотое сечение» (золотое число равно 1,618) ввёл Леонардо да Винчи, который создал знаменитый рисунок «Витрувианский человек», в котором и отразил соблюдение указанных пропорций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5C93-823F-4280-BB6B-A235E749BF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Древнерусские меры длины</a:t>
            </a: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0520" y="1844280"/>
            <a:ext cx="91756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Дюй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старинная русская мера длины, равная ширине большого пальца. 1 дюйм = 2,54 сантиметр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Локо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это расстояние от конца вытянутого среднего пальца руки до локтевого сгиба. Его длина колебалась от 38 до 46 сантимет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Пяд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название происходит от древнерусского слова «пясть» (отсюда – запястье), т.е. кисть руки. Пядь – расстояние между концами вытянутых большого и указательного пальцев, что составляет около 18 сантиметро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Арши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происходит от персидского слова «араш» – локоть, использовалась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XVI века. Аршин изначально измерялся, как длина всей вытянутой руки от                                  плечевого сустава до среднего пальца (около 71 сантиметра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Маховая сажен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расстояние между концами пальцев распростертых рук, ее длина  213 сантиметров. Косая сажень – расстояние от носка левой ноги до конца среднего пальца поднятой вверх правой руки. Длина такой саже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р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48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антиметр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6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3EA2-5DEF-4D3A-8F57-9AD6ADCD03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Меры длины в разных странах</a:t>
            </a: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81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йлан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э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= 4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р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ва =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р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 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сау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5 метр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   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кеп = 0,25 метр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Кита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ли – в древности составляла 36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а современное общепринят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– 500 метр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фэнь = 66 метро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цунь или китайский дюйм - 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ременном Китае принимае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ным 1/30 метра или 3,33 сантимет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28840" y="1599840"/>
            <a:ext cx="4381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евняя Гре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плетр = 29,6 мет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дактиль = 1,85 сантимет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Егип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парасанг = 6,98 километ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шем = 62,82 километра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F113-300E-407D-BCA3-965497118F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Международная система (СИ)</a:t>
            </a: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трическая систем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это общее название международной десятичной системы единиц, основными единицами которой являются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тр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илограмм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Метрическая система выросла из постановлений, принятых Национальным собранием Франции в 1791 и 1795 по определению метра как одной десятимиллионной доли участка земного меридиана от Северного полюса до экватор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Международная комиссия по метру в 1872 постановила принять за эталон длины «архивный» метр, хранящийся в Париже, «такой, каков он есть». В 1875 многие страны мира подписали соглашение о метре, и этим соглашением была установлена процедура координации метрологических эталонов для мирового научного сообщества через Международное бюро мер и весов и Генеральную конференцию по мерам и весам. В 1799 из сплава 90% платины и 10% иридия был изготовлен эталон метра, длина которого соответствовала одной сорокамиллионной части Парижского меридиан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овременное определение метра в терминах времени и скорости света было введено в 1983 году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тр равен расстоянию, которое проходит свет в вакууме за промежуток времени, равный 1/299 792 458 секунды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A8EF-EFBE-4041-9087-E85EECD1844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Интересные факты</a:t>
            </a: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 Английский ярд, установленный в 1101 году королем Генрихом I, как расстояние от его носа до кончиков пальцев, оказался самой не сбереженной потомками мерой длины. Очень дорогой и тщательно изготовленный эталон сгорел во время пожара здания парламента в 1834 году. Пришлось собирать по всей стране наиболее доброкачественные копии, и утверждать заново величину ярда 50 годами позж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 Самой остроумной мерой длины мне показался 1 шток, принятый в Англии. 1 шток = длина левых ступней 16 человек, выходящих от заутрени (с церковной службы) в воскресенье. 1/16 штока давала длину фута, что по-английски как раз и значит: «ступня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 Самой романтичной мерой длины является – стадия. Это путь, который можно пройти с момента касания солнца горизонта, до тех пор, пока солнце за горизонтом не скроется. Мера хоть и красивая по определению, но не постоянная: шаг у людей разный, и потому стадия была равна от 185 до 195 метр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6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E454-17A4-4B84-9B8B-D4DABD055C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рактические методы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 определения длины</a:t>
            </a: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81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змерение высоты паль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подручными средствами определить высоту пальмы без специальных инструментов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Решили измерить ее высоту по тени, сопоставив с моей тенью. Я встал рядом с пальмой. Мама отметила место, где закончилась моя тень, и я перешел на это место. Так мы проделали несколько раз и определили, сколько раз моя тень уложилась в тени пальмы. Оказалось четыре раза. Мой рост составляет 160 сантиметров. Таким образом, можно вычислить высоту пальмы. 160 умножаем на 4 и получаем 640 сантиметров. Высота пальмы – 6 метров 40 сантиметр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DSCN3000"/>
          <p:cNvPicPr/>
          <p:nvPr/>
        </p:nvPicPr>
        <p:blipFill>
          <a:blip r:embed="rId1"/>
          <a:stretch/>
        </p:blipFill>
        <p:spPr>
          <a:xfrm>
            <a:off x="5519880" y="1600200"/>
            <a:ext cx="3400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52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6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FF5C-5310-467D-9E1F-7A0B63F22FC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Практические методы</a:t>
            </a:r>
            <a:br>
              <a:rPr sz="3600"/>
            </a:b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 определения длины</a:t>
            </a:r>
            <a:endParaRPr b="0" lang="en-US" sz="3600" spc="-1" strike="noStrike">
              <a:solidFill>
                <a:srgbClr val="99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7058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мерение расстояния шага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я начал ходить в гости к бабушке самостоя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зада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 какой путь короче?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й маршрут удобн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до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обильной дор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петляя по двор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по прямой через лес на гор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ое расстояние кратчайш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?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я решил установить прежде все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оль автомобильной дороги количество шагов составило 1765 шаг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ворам 1570 шаг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 лесу 1217 шаг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м кратчайшим маршрутом оказалась дорога через ле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 я решил вычислить длину расстоя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е я проходил разными маршру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а моего шага составля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7 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деланный мной вдоль автомобильной дор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 1 км. 182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ворам 1 км. 51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 лесу 815 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9:24:17Z</dcterms:created>
  <dc:creator>Любавин</dc:creator>
  <dc:description/>
  <dc:language>en-US</dc:language>
  <cp:lastModifiedBy>Олег</cp:lastModifiedBy>
  <dcterms:modified xsi:type="dcterms:W3CDTF">2010-01-28T04:47:29Z</dcterms:modified>
  <cp:revision>1492</cp:revision>
  <dc:subject/>
  <dc:title>Слайд 1</dc:title>
</cp:coreProperties>
</file>